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png" ContentType="image/png"/>
  <Override PartName="/ppt/media/image11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Click to move the slide</a:t>
            </a: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65668-E63E-4A60-B91D-187B38E1AA5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3F18A-7B38-430B-9270-24FBFA565EC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12A0C-F1E2-470D-AC6B-52EB562B413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e to Teachers: If students have not yet written a problem-solution analysis (see the Writing Workshop in this collection), they will need to research a problem and present a plausible solution to that problem for this assignmen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3F38F-D03A-4BC8-8972-38B1F8313BC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10B91-B3D5-4665-A115-89664CA3B10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D9955-3EC6-4A67-987B-2A6678510E4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7AAEB-430C-4DCD-A0CD-0E6EFD432C5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7C645-8318-4827-90D2-63850CBB513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BFC7E-B1C6-4F8E-8F51-E41923ABCE8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A8B64-9045-42D7-8D62-3292C9DE532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33520" y="533160"/>
            <a:ext cx="80769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hyperlink" Target="file:///../Credits.ppt" TargetMode="External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Click to edit the title text format</a:t>
            </a: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" name="AutoShape 13">
            <a:hlinkClick r:id="" action="ppaction://hlinkshowjump?jump=firstslide"/>
          </p:cNvPr>
          <p:cNvSpPr/>
          <p:nvPr/>
        </p:nvSpPr>
        <p:spPr>
          <a:xfrm>
            <a:off x="7656480" y="6019920"/>
            <a:ext cx="609480" cy="8380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838080"/>
              <a:gd name="textAreaBottom" fmla="*/ 798840 h 838080"/>
            </a:gdLst>
            <a:ahLst/>
            <a:rect l="textAreaLeft" t="textAreaTop" r="textAreaRight" b="textAreaBottom"/>
            <a:pathLst>
              <a:path w="21600" h="29697">
                <a:moveTo>
                  <a:pt x="0" y="0"/>
                </a:moveTo>
                <a:lnTo>
                  <a:pt x="21600" y="0"/>
                </a:lnTo>
                <a:lnTo>
                  <a:pt x="21600" y="29697"/>
                </a:lnTo>
                <a:lnTo>
                  <a:pt x="0" y="29697"/>
                </a:lnTo>
                <a:close/>
              </a:path>
              <a:path fill="lightenLess" w="21600" h="2969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9697">
                <a:moveTo>
                  <a:pt x="21600" y="0"/>
                </a:moveTo>
                <a:lnTo>
                  <a:pt x="21600" y="29697"/>
                </a:lnTo>
                <a:lnTo>
                  <a:pt x="20200" y="28297"/>
                </a:lnTo>
                <a:lnTo>
                  <a:pt x="20200" y="1400"/>
                </a:lnTo>
                <a:close/>
              </a:path>
              <a:path fill="darkenLess" w="21600" h="29697">
                <a:moveTo>
                  <a:pt x="21600" y="29697"/>
                </a:moveTo>
                <a:lnTo>
                  <a:pt x="0" y="29697"/>
                </a:lnTo>
                <a:lnTo>
                  <a:pt x="1400" y="28297"/>
                </a:lnTo>
                <a:lnTo>
                  <a:pt x="20200" y="28297"/>
                </a:lnTo>
                <a:close/>
              </a:path>
              <a:path fill="lighten" w="21600" h="29697">
                <a:moveTo>
                  <a:pt x="0" y="29697"/>
                </a:moveTo>
                <a:lnTo>
                  <a:pt x="0" y="0"/>
                </a:lnTo>
                <a:lnTo>
                  <a:pt x="1400" y="1400"/>
                </a:lnTo>
                <a:lnTo>
                  <a:pt x="1400" y="28297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14">
            <a:hlinkClick r:id="" action="ppaction://hlinkshowjump?jump=nextslide"/>
          </p:cNvPr>
          <p:cNvSpPr/>
          <p:nvPr/>
        </p:nvSpPr>
        <p:spPr>
          <a:xfrm>
            <a:off x="6881760" y="6019920"/>
            <a:ext cx="685800" cy="83808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838080"/>
              <a:gd name="textAreaBottom" fmla="*/ 793800 h 838080"/>
            </a:gdLst>
            <a:ahLst/>
            <a:rect l="textAreaLeft" t="textAreaTop" r="textAreaRight" b="textAreaBottom"/>
            <a:pathLst>
              <a:path w="21600" h="26394">
                <a:moveTo>
                  <a:pt x="0" y="0"/>
                </a:moveTo>
                <a:lnTo>
                  <a:pt x="21600" y="0"/>
                </a:lnTo>
                <a:lnTo>
                  <a:pt x="21600" y="26394"/>
                </a:lnTo>
                <a:lnTo>
                  <a:pt x="0" y="26394"/>
                </a:lnTo>
                <a:close/>
              </a:path>
              <a:path fill="lightenLess" w="21600" h="263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394">
                <a:moveTo>
                  <a:pt x="21600" y="0"/>
                </a:moveTo>
                <a:lnTo>
                  <a:pt x="21600" y="26394"/>
                </a:lnTo>
                <a:lnTo>
                  <a:pt x="20200" y="24994"/>
                </a:lnTo>
                <a:lnTo>
                  <a:pt x="20200" y="1400"/>
                </a:lnTo>
                <a:close/>
              </a:path>
              <a:path fill="darkenLess" w="21600" h="26394">
                <a:moveTo>
                  <a:pt x="21600" y="26394"/>
                </a:moveTo>
                <a:lnTo>
                  <a:pt x="0" y="26394"/>
                </a:lnTo>
                <a:lnTo>
                  <a:pt x="1400" y="24994"/>
                </a:lnTo>
                <a:lnTo>
                  <a:pt x="20200" y="24994"/>
                </a:lnTo>
                <a:close/>
              </a:path>
              <a:path fill="lighten" w="21600" h="26394">
                <a:moveTo>
                  <a:pt x="0" y="26394"/>
                </a:moveTo>
                <a:lnTo>
                  <a:pt x="0" y="0"/>
                </a:lnTo>
                <a:lnTo>
                  <a:pt x="1400" y="1400"/>
                </a:lnTo>
                <a:lnTo>
                  <a:pt x="1400" y="24994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AutoShape 15">
            <a:hlinkClick r:id="" action="ppaction://hlinkshowjump?jump=endshow"/>
          </p:cNvPr>
          <p:cNvSpPr/>
          <p:nvPr/>
        </p:nvSpPr>
        <p:spPr>
          <a:xfrm>
            <a:off x="8344080" y="6019920"/>
            <a:ext cx="533160" cy="83808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838080"/>
              <a:gd name="textAreaBottom" fmla="*/ 803520 h 838080"/>
            </a:gdLst>
            <a:ahLst/>
            <a:rect l="textAreaLeft" t="textAreaTop" r="textAreaRight" b="textAreaBottom"/>
            <a:pathLst>
              <a:path w="21600" h="33945">
                <a:moveTo>
                  <a:pt x="0" y="0"/>
                </a:moveTo>
                <a:lnTo>
                  <a:pt x="21600" y="0"/>
                </a:lnTo>
                <a:lnTo>
                  <a:pt x="21600" y="33945"/>
                </a:lnTo>
                <a:lnTo>
                  <a:pt x="0" y="33945"/>
                </a:lnTo>
                <a:close/>
              </a:path>
              <a:path fill="lightenLess" w="21600" h="3394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3945">
                <a:moveTo>
                  <a:pt x="21600" y="0"/>
                </a:moveTo>
                <a:lnTo>
                  <a:pt x="21600" y="33945"/>
                </a:lnTo>
                <a:lnTo>
                  <a:pt x="20200" y="32545"/>
                </a:lnTo>
                <a:lnTo>
                  <a:pt x="20200" y="1400"/>
                </a:lnTo>
                <a:close/>
              </a:path>
              <a:path fill="darkenLess" w="21600" h="33945">
                <a:moveTo>
                  <a:pt x="21600" y="33945"/>
                </a:moveTo>
                <a:lnTo>
                  <a:pt x="0" y="33945"/>
                </a:lnTo>
                <a:lnTo>
                  <a:pt x="1400" y="32545"/>
                </a:lnTo>
                <a:lnTo>
                  <a:pt x="20200" y="32545"/>
                </a:lnTo>
                <a:close/>
              </a:path>
              <a:path fill="lighten" w="21600" h="33945">
                <a:moveTo>
                  <a:pt x="0" y="33945"/>
                </a:moveTo>
                <a:lnTo>
                  <a:pt x="0" y="0"/>
                </a:lnTo>
                <a:lnTo>
                  <a:pt x="1400" y="1400"/>
                </a:lnTo>
                <a:lnTo>
                  <a:pt x="1400" y="32545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AutoShape 16">
            <a:hlinkClick r:id="" action="ppaction://hlinkshowjump?jump=previousslide"/>
          </p:cNvPr>
          <p:cNvSpPr/>
          <p:nvPr/>
        </p:nvSpPr>
        <p:spPr>
          <a:xfrm>
            <a:off x="6172200" y="6032520"/>
            <a:ext cx="673200" cy="825480"/>
          </a:xfrm>
          <a:custGeom>
            <a:avLst/>
            <a:gdLst>
              <a:gd name="textAreaLeft" fmla="*/ 43560 w 673200"/>
              <a:gd name="textAreaRight" fmla="*/ 629640 w 673200"/>
              <a:gd name="textAreaTop" fmla="*/ 43560 h 825480"/>
              <a:gd name="textAreaBottom" fmla="*/ 781920 h 825480"/>
            </a:gdLst>
            <a:ahLst/>
            <a:rect l="textAreaLeft" t="textAreaTop" r="textAreaRight" b="textAreaBottom"/>
            <a:pathLst>
              <a:path w="21600" h="26483">
                <a:moveTo>
                  <a:pt x="0" y="0"/>
                </a:moveTo>
                <a:lnTo>
                  <a:pt x="21600" y="0"/>
                </a:lnTo>
                <a:lnTo>
                  <a:pt x="21600" y="26483"/>
                </a:lnTo>
                <a:lnTo>
                  <a:pt x="0" y="26483"/>
                </a:lnTo>
                <a:close/>
              </a:path>
              <a:path fill="lightenLess" w="21600" h="2648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483">
                <a:moveTo>
                  <a:pt x="21600" y="0"/>
                </a:moveTo>
                <a:lnTo>
                  <a:pt x="21600" y="26483"/>
                </a:lnTo>
                <a:lnTo>
                  <a:pt x="20200" y="25083"/>
                </a:lnTo>
                <a:lnTo>
                  <a:pt x="20200" y="1400"/>
                </a:lnTo>
                <a:close/>
              </a:path>
              <a:path fill="darkenLess" w="21600" h="26483">
                <a:moveTo>
                  <a:pt x="21600" y="26483"/>
                </a:moveTo>
                <a:lnTo>
                  <a:pt x="0" y="26483"/>
                </a:lnTo>
                <a:lnTo>
                  <a:pt x="1400" y="25083"/>
                </a:lnTo>
                <a:lnTo>
                  <a:pt x="20200" y="25083"/>
                </a:lnTo>
                <a:close/>
              </a:path>
              <a:path fill="lighten" w="21600" h="26483">
                <a:moveTo>
                  <a:pt x="0" y="26483"/>
                </a:moveTo>
                <a:lnTo>
                  <a:pt x="0" y="0"/>
                </a:lnTo>
                <a:lnTo>
                  <a:pt x="1400" y="1400"/>
                </a:lnTo>
                <a:lnTo>
                  <a:pt x="1400" y="2508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Rectangle 17">
            <a:hlinkClick r:id="rId3"/>
          </p:cNvPr>
          <p:cNvSpPr/>
          <p:nvPr/>
        </p:nvSpPr>
        <p:spPr>
          <a:xfrm>
            <a:off x="4952880" y="6629400"/>
            <a:ext cx="685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8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8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Listening and Speaking Workshop</a:t>
            </a:r>
            <a:br>
              <a:rPr sz="2000"/>
            </a:b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Giving a Persuasive Speech</a:t>
            </a:r>
            <a:endParaRPr b="1" lang="en-US" sz="20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839880" y="1754280"/>
            <a:ext cx="7337160" cy="22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99"/>
                </a:solidFill>
                <a:uFillTx/>
                <a:latin typeface="Verdana"/>
                <a:hlinkClick r:id="rId2" action="ppaction://hlinksldjump"/>
              </a:rPr>
              <a:t>Speaking Assign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99"/>
                </a:solidFill>
                <a:uFillTx/>
                <a:latin typeface="Verdana"/>
                <a:hlinkClick r:id="rId3" action="ppaction://hlinksldjump"/>
              </a:rPr>
              <a:t>Adapt Your Written Analysi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99"/>
                </a:solidFill>
                <a:uFillTx/>
                <a:latin typeface="Verdana"/>
                <a:hlinkClick r:id="rId4" action="ppaction://hlinksldjump"/>
              </a:rPr>
              <a:t>Rehearse and Deliver Your Speec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Practice and Appl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AutoShape 6">
            <a:hlinkClick r:id="" action="ppaction://hlinkshowjump?jump=endshow"/>
          </p:cNvPr>
          <p:cNvSpPr/>
          <p:nvPr/>
        </p:nvSpPr>
        <p:spPr>
          <a:xfrm>
            <a:off x="7516800" y="5946840"/>
            <a:ext cx="800280" cy="911160"/>
          </a:xfrm>
          <a:custGeom>
            <a:avLst/>
            <a:gdLst>
              <a:gd name="textAreaLeft" fmla="*/ 51840 w 800280"/>
              <a:gd name="textAreaRight" fmla="*/ 748440 w 800280"/>
              <a:gd name="textAreaTop" fmla="*/ 51840 h 911160"/>
              <a:gd name="textAreaBottom" fmla="*/ 859320 h 911160"/>
            </a:gdLst>
            <a:ahLst/>
            <a:rect l="textAreaLeft" t="textAreaTop" r="textAreaRight" b="textAreaBottom"/>
            <a:pathLst>
              <a:path w="21600" h="24591">
                <a:moveTo>
                  <a:pt x="0" y="0"/>
                </a:moveTo>
                <a:lnTo>
                  <a:pt x="21600" y="0"/>
                </a:lnTo>
                <a:lnTo>
                  <a:pt x="21600" y="24591"/>
                </a:lnTo>
                <a:lnTo>
                  <a:pt x="0" y="24591"/>
                </a:lnTo>
                <a:close/>
              </a:path>
              <a:path fill="lightenLess" w="21600" h="2459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591">
                <a:moveTo>
                  <a:pt x="21600" y="0"/>
                </a:moveTo>
                <a:lnTo>
                  <a:pt x="21600" y="24591"/>
                </a:lnTo>
                <a:lnTo>
                  <a:pt x="20200" y="23191"/>
                </a:lnTo>
                <a:lnTo>
                  <a:pt x="20200" y="1400"/>
                </a:lnTo>
                <a:close/>
              </a:path>
              <a:path fill="darkenLess" w="21600" h="24591">
                <a:moveTo>
                  <a:pt x="21600" y="24591"/>
                </a:moveTo>
                <a:lnTo>
                  <a:pt x="0" y="24591"/>
                </a:lnTo>
                <a:lnTo>
                  <a:pt x="1400" y="23191"/>
                </a:lnTo>
                <a:lnTo>
                  <a:pt x="20200" y="23191"/>
                </a:lnTo>
                <a:close/>
              </a:path>
              <a:path fill="lighten" w="21600" h="24591">
                <a:moveTo>
                  <a:pt x="0" y="24591"/>
                </a:moveTo>
                <a:lnTo>
                  <a:pt x="0" y="0"/>
                </a:lnTo>
                <a:lnTo>
                  <a:pt x="1400" y="1400"/>
                </a:lnTo>
                <a:lnTo>
                  <a:pt x="1400" y="23191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AutoShape 7">
            <a:hlinkClick r:id="" action="ppaction://hlinkshowjump?jump=endshow"/>
          </p:cNvPr>
          <p:cNvSpPr/>
          <p:nvPr/>
        </p:nvSpPr>
        <p:spPr>
          <a:xfrm>
            <a:off x="6107040" y="5927760"/>
            <a:ext cx="790560" cy="930240"/>
          </a:xfrm>
          <a:custGeom>
            <a:avLst/>
            <a:gdLst>
              <a:gd name="textAreaLeft" fmla="*/ 51120 w 790560"/>
              <a:gd name="textAreaRight" fmla="*/ 739440 w 790560"/>
              <a:gd name="textAreaTop" fmla="*/ 51120 h 930240"/>
              <a:gd name="textAreaBottom" fmla="*/ 879120 h 930240"/>
            </a:gdLst>
            <a:ahLst/>
            <a:rect l="textAreaLeft" t="textAreaTop" r="textAreaRight" b="textAreaBottom"/>
            <a:pathLst>
              <a:path w="21600" h="25415">
                <a:moveTo>
                  <a:pt x="0" y="0"/>
                </a:moveTo>
                <a:lnTo>
                  <a:pt x="21600" y="0"/>
                </a:lnTo>
                <a:lnTo>
                  <a:pt x="21600" y="25415"/>
                </a:lnTo>
                <a:lnTo>
                  <a:pt x="0" y="25415"/>
                </a:lnTo>
                <a:close/>
              </a:path>
              <a:path fill="lightenLess" w="21600" h="2541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415">
                <a:moveTo>
                  <a:pt x="21600" y="0"/>
                </a:moveTo>
                <a:lnTo>
                  <a:pt x="21600" y="25415"/>
                </a:lnTo>
                <a:lnTo>
                  <a:pt x="20200" y="24015"/>
                </a:lnTo>
                <a:lnTo>
                  <a:pt x="20200" y="1400"/>
                </a:lnTo>
                <a:close/>
              </a:path>
              <a:path fill="darkenLess" w="21600" h="25415">
                <a:moveTo>
                  <a:pt x="21600" y="25415"/>
                </a:moveTo>
                <a:lnTo>
                  <a:pt x="0" y="25415"/>
                </a:lnTo>
                <a:lnTo>
                  <a:pt x="1400" y="24015"/>
                </a:lnTo>
                <a:lnTo>
                  <a:pt x="20200" y="24015"/>
                </a:lnTo>
                <a:close/>
              </a:path>
              <a:path fill="lighten" w="21600" h="25415">
                <a:moveTo>
                  <a:pt x="0" y="25415"/>
                </a:moveTo>
                <a:lnTo>
                  <a:pt x="0" y="0"/>
                </a:lnTo>
                <a:lnTo>
                  <a:pt x="1400" y="1400"/>
                </a:lnTo>
                <a:lnTo>
                  <a:pt x="1400" y="24015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533520" y="1371600"/>
            <a:ext cx="221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Verdana"/>
              </a:rPr>
              <a:t>Feature Menu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3"/>
          <p:cNvSpPr/>
          <p:nvPr/>
        </p:nvSpPr>
        <p:spPr>
          <a:xfrm>
            <a:off x="533520" y="1371600"/>
            <a:ext cx="8076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Speaking Assignment:</a:t>
            </a: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 Adapt a written analysis into a formal persuasive speech that addresses a problem and presents a solutio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Giving a Persuasive Speech</a:t>
            </a: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56" name="Text Box 42"/>
          <p:cNvSpPr/>
          <p:nvPr/>
        </p:nvSpPr>
        <p:spPr>
          <a:xfrm>
            <a:off x="539640" y="2841480"/>
            <a:ext cx="8077320" cy="265968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7160" rIns="137160" tIns="137160" bIns="13716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Have you ever felt moved by a public speaker’s call to action? How did that speaker grab and hold your attention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In this workshop, you will learn to adapt the problem-solution analysis you have just completed into a convincing persuasive speech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7" name="Picture 49" descr=""/>
          <p:cNvPicPr/>
          <p:nvPr/>
        </p:nvPicPr>
        <p:blipFill>
          <a:blip r:embed="rId1"/>
          <a:stretch/>
        </p:blipFill>
        <p:spPr>
          <a:xfrm>
            <a:off x="5864400" y="2340000"/>
            <a:ext cx="133200" cy="88920"/>
          </a:xfrm>
          <a:prstGeom prst="rect">
            <a:avLst/>
          </a:prstGeom>
          <a:ln w="0">
            <a:noFill/>
          </a:ln>
        </p:spPr>
      </p:pic>
      <p:sp>
        <p:nvSpPr>
          <p:cNvPr id="58" name="Text Box 50"/>
          <p:cNvSpPr/>
          <p:nvPr/>
        </p:nvSpPr>
        <p:spPr>
          <a:xfrm>
            <a:off x="6553080" y="56530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[End of Section]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7" descr="c03lsw001"/>
          <p:cNvPicPr/>
          <p:nvPr/>
        </p:nvPicPr>
        <p:blipFill>
          <a:blip r:embed="rId1"/>
          <a:stretch/>
        </p:blipFill>
        <p:spPr>
          <a:xfrm>
            <a:off x="2743200" y="3352680"/>
            <a:ext cx="1743120" cy="25434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8" descr="c03lsw002"/>
          <p:cNvPicPr/>
          <p:nvPr/>
        </p:nvPicPr>
        <p:blipFill>
          <a:blip r:embed="rId2"/>
          <a:stretch/>
        </p:blipFill>
        <p:spPr>
          <a:xfrm>
            <a:off x="4572000" y="3352680"/>
            <a:ext cx="1743120" cy="25434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Giving a Persuasive Speech</a:t>
            </a:r>
            <a:br>
              <a:rPr sz="2500"/>
            </a:b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62" name="Text Box 32"/>
          <p:cNvSpPr/>
          <p:nvPr/>
        </p:nvSpPr>
        <p:spPr>
          <a:xfrm>
            <a:off x="533520" y="1370160"/>
            <a:ext cx="80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Your </a:t>
            </a: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purpose</a:t>
            </a: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 in giving a persuasive speech is t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Text Box 33"/>
          <p:cNvSpPr/>
          <p:nvPr/>
        </p:nvSpPr>
        <p:spPr>
          <a:xfrm>
            <a:off x="528480" y="1908000"/>
            <a:ext cx="779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61880" indent="-347400">
              <a:lnSpc>
                <a:spcPct val="100000"/>
              </a:lnSpc>
              <a:spcBef>
                <a:spcPts val="15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point out a particular proble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Text Box 34"/>
          <p:cNvSpPr/>
          <p:nvPr/>
        </p:nvSpPr>
        <p:spPr>
          <a:xfrm>
            <a:off x="528480" y="2448000"/>
            <a:ext cx="8093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61880" indent="-347400">
              <a:lnSpc>
                <a:spcPct val="100000"/>
              </a:lnSpc>
              <a:spcBef>
                <a:spcPts val="15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convince an </a:t>
            </a: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audience</a:t>
            </a: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 that you have the best solution for the proble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Text Box 37"/>
          <p:cNvSpPr/>
          <p:nvPr/>
        </p:nvSpPr>
        <p:spPr>
          <a:xfrm>
            <a:off x="1397160" y="4035600"/>
            <a:ext cx="1562040" cy="398880"/>
          </a:xfrm>
          <a:prstGeom prst="rect">
            <a:avLst/>
          </a:prstGeom>
          <a:solidFill>
            <a:srgbClr val="33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Text Box 38"/>
          <p:cNvSpPr/>
          <p:nvPr/>
        </p:nvSpPr>
        <p:spPr>
          <a:xfrm>
            <a:off x="6194520" y="4664160"/>
            <a:ext cx="1562040" cy="398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solu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7" name="Picture 39" descr=""/>
          <p:cNvPicPr/>
          <p:nvPr/>
        </p:nvPicPr>
        <p:blipFill>
          <a:blip r:embed="rId3"/>
          <a:stretch/>
        </p:blipFill>
        <p:spPr>
          <a:xfrm>
            <a:off x="8373960" y="1617840"/>
            <a:ext cx="133560" cy="885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40" descr=""/>
          <p:cNvPicPr/>
          <p:nvPr/>
        </p:nvPicPr>
        <p:blipFill>
          <a:blip r:embed="rId4"/>
          <a:stretch/>
        </p:blipFill>
        <p:spPr>
          <a:xfrm>
            <a:off x="5884920" y="2151000"/>
            <a:ext cx="133200" cy="889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Giving a Persuasive Speech</a:t>
            </a:r>
            <a:br>
              <a:rPr sz="2500"/>
            </a:b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528480" y="2838600"/>
            <a:ext cx="779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61880" indent="-347400">
              <a:lnSpc>
                <a:spcPct val="100000"/>
              </a:lnSpc>
              <a:spcBef>
                <a:spcPts val="15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identifies the issu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Text Box 5"/>
          <p:cNvSpPr/>
          <p:nvPr/>
        </p:nvSpPr>
        <p:spPr>
          <a:xfrm>
            <a:off x="528480" y="3387600"/>
            <a:ext cx="77979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61880" indent="-347400">
              <a:lnSpc>
                <a:spcPct val="100000"/>
              </a:lnSpc>
              <a:spcBef>
                <a:spcPts val="15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expresses your opinion about i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61880" indent="-347400">
              <a:lnSpc>
                <a:spcPct val="100000"/>
              </a:lnSpc>
              <a:spcBef>
                <a:spcPts val="15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shows us the best solution to the proble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Text Box 6"/>
          <p:cNvSpPr/>
          <p:nvPr/>
        </p:nvSpPr>
        <p:spPr>
          <a:xfrm>
            <a:off x="528480" y="1370160"/>
            <a:ext cx="83440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Thesi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The thesis of a persuasive speech is an </a:t>
            </a: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assertion</a:t>
            </a: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—</a:t>
            </a:r>
            <a:br>
              <a:rPr sz="2400"/>
            </a:b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a statement th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3" name="Picture 14" descr=""/>
          <p:cNvPicPr/>
          <p:nvPr/>
        </p:nvPicPr>
        <p:blipFill>
          <a:blip r:embed="rId1"/>
          <a:stretch/>
        </p:blipFill>
        <p:spPr>
          <a:xfrm>
            <a:off x="3354480" y="2516040"/>
            <a:ext cx="133200" cy="889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5" descr=""/>
          <p:cNvPicPr/>
          <p:nvPr/>
        </p:nvPicPr>
        <p:blipFill>
          <a:blip r:embed="rId2"/>
          <a:stretch/>
        </p:blipFill>
        <p:spPr>
          <a:xfrm>
            <a:off x="4181400" y="3078000"/>
            <a:ext cx="133560" cy="889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7" descr=""/>
          <p:cNvPicPr/>
          <p:nvPr/>
        </p:nvPicPr>
        <p:blipFill>
          <a:blip r:embed="rId3"/>
          <a:stretch/>
        </p:blipFill>
        <p:spPr>
          <a:xfrm>
            <a:off x="7813800" y="5522760"/>
            <a:ext cx="796680" cy="420840"/>
          </a:xfrm>
          <a:prstGeom prst="rect">
            <a:avLst/>
          </a:prstGeom>
          <a:ln w="0">
            <a:noFill/>
          </a:ln>
        </p:spPr>
      </p:pic>
      <p:sp>
        <p:nvSpPr>
          <p:cNvPr id="76" name="AutoShape 18"/>
          <p:cNvSpPr/>
          <p:nvPr/>
        </p:nvSpPr>
        <p:spPr>
          <a:xfrm>
            <a:off x="5757840" y="6075360"/>
            <a:ext cx="2560680" cy="782640"/>
          </a:xfrm>
          <a:custGeom>
            <a:avLst/>
            <a:gdLst>
              <a:gd name="textAreaLeft" fmla="*/ 50400 w 2560680"/>
              <a:gd name="textAreaRight" fmla="*/ 2510280 w 2560680"/>
              <a:gd name="textAreaTop" fmla="*/ 50400 h 782640"/>
              <a:gd name="textAreaBottom" fmla="*/ 732240 h 782640"/>
            </a:gdLst>
            <a:ahLst/>
            <a:rect l="textAreaLeft" t="textAreaTop" r="textAreaRight" b="textAreaBottom"/>
            <a:pathLst>
              <a:path w="70649" h="21600">
                <a:moveTo>
                  <a:pt x="0" y="0"/>
                </a:moveTo>
                <a:lnTo>
                  <a:pt x="70649" y="0"/>
                </a:lnTo>
                <a:lnTo>
                  <a:pt x="70649" y="21600"/>
                </a:lnTo>
                <a:lnTo>
                  <a:pt x="0" y="21600"/>
                </a:lnTo>
                <a:close/>
              </a:path>
              <a:path fill="lightenLess" w="70649" h="21600">
                <a:moveTo>
                  <a:pt x="0" y="0"/>
                </a:moveTo>
                <a:lnTo>
                  <a:pt x="70649" y="0"/>
                </a:lnTo>
                <a:lnTo>
                  <a:pt x="69249" y="1400"/>
                </a:lnTo>
                <a:lnTo>
                  <a:pt x="1400" y="1400"/>
                </a:lnTo>
                <a:close/>
              </a:path>
              <a:path fill="darken" w="70649" h="21600">
                <a:moveTo>
                  <a:pt x="70649" y="0"/>
                </a:moveTo>
                <a:lnTo>
                  <a:pt x="70649" y="21600"/>
                </a:lnTo>
                <a:lnTo>
                  <a:pt x="69249" y="20200"/>
                </a:lnTo>
                <a:lnTo>
                  <a:pt x="69249" y="1400"/>
                </a:lnTo>
                <a:close/>
              </a:path>
              <a:path fill="darkenLess" w="70649" h="21600">
                <a:moveTo>
                  <a:pt x="706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9249" y="20200"/>
                </a:lnTo>
                <a:close/>
              </a:path>
              <a:path fill="lighten" w="706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Text Box 13"/>
          <p:cNvSpPr/>
          <p:nvPr/>
        </p:nvSpPr>
        <p:spPr>
          <a:xfrm>
            <a:off x="609480" y="4495680"/>
            <a:ext cx="143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Verdana"/>
              </a:rPr>
              <a:t>Thesi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Text Box 12"/>
          <p:cNvSpPr/>
          <p:nvPr/>
        </p:nvSpPr>
        <p:spPr>
          <a:xfrm>
            <a:off x="1752480" y="4572000"/>
            <a:ext cx="6578640" cy="1008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High school students should apply their creative talents to help younger children learn healthy eating habit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Giving a Persuasive Speech</a:t>
            </a:r>
            <a:br>
              <a:rPr sz="2500"/>
            </a:b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80" name="Text Box 8"/>
          <p:cNvSpPr/>
          <p:nvPr/>
        </p:nvSpPr>
        <p:spPr>
          <a:xfrm>
            <a:off x="533520" y="2286000"/>
            <a:ext cx="80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61880" indent="-347400">
              <a:lnSpc>
                <a:spcPct val="100000"/>
              </a:lnSpc>
              <a:spcBef>
                <a:spcPts val="15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clarify what you mea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Text Box 9"/>
          <p:cNvSpPr/>
          <p:nvPr/>
        </p:nvSpPr>
        <p:spPr>
          <a:xfrm>
            <a:off x="527040" y="3749760"/>
            <a:ext cx="80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61880" indent="-347400">
              <a:lnSpc>
                <a:spcPct val="100000"/>
              </a:lnSpc>
              <a:spcBef>
                <a:spcPts val="15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stay within the time limit of 2 minut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Text Box 10"/>
          <p:cNvSpPr/>
          <p:nvPr/>
        </p:nvSpPr>
        <p:spPr>
          <a:xfrm>
            <a:off x="533520" y="2835360"/>
            <a:ext cx="8076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61880" indent="-347400">
              <a:lnSpc>
                <a:spcPct val="100000"/>
              </a:lnSpc>
              <a:spcBef>
                <a:spcPts val="15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a convincing solution is simple. Simplify the explanations of the problem and solu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Text Box 12"/>
          <p:cNvSpPr/>
          <p:nvPr/>
        </p:nvSpPr>
        <p:spPr>
          <a:xfrm>
            <a:off x="533520" y="1370160"/>
            <a:ext cx="8076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Read your speech aloud, and time yourself. Then add or subtract information as necessary t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4" name="Picture 13" descr=""/>
          <p:cNvPicPr/>
          <p:nvPr/>
        </p:nvPicPr>
        <p:blipFill>
          <a:blip r:embed="rId1"/>
          <a:stretch/>
        </p:blipFill>
        <p:spPr>
          <a:xfrm>
            <a:off x="7529400" y="1973160"/>
            <a:ext cx="133560" cy="889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4" descr=""/>
          <p:cNvPicPr/>
          <p:nvPr/>
        </p:nvPicPr>
        <p:blipFill>
          <a:blip r:embed="rId2"/>
          <a:stretch/>
        </p:blipFill>
        <p:spPr>
          <a:xfrm>
            <a:off x="4749840" y="2500200"/>
            <a:ext cx="133200" cy="889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5" descr=""/>
          <p:cNvPicPr/>
          <p:nvPr/>
        </p:nvPicPr>
        <p:blipFill>
          <a:blip r:embed="rId3"/>
          <a:stretch/>
        </p:blipFill>
        <p:spPr>
          <a:xfrm>
            <a:off x="7848720" y="3505320"/>
            <a:ext cx="114120" cy="759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Giving a Persuasive Speech</a:t>
            </a:r>
            <a:br>
              <a:rPr sz="2500"/>
            </a:b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88" name="Text Box 3"/>
          <p:cNvSpPr/>
          <p:nvPr/>
        </p:nvSpPr>
        <p:spPr>
          <a:xfrm>
            <a:off x="533520" y="1370160"/>
            <a:ext cx="8076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As necessary, do additional research or interview other people t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Text Box 8"/>
          <p:cNvSpPr/>
          <p:nvPr/>
        </p:nvSpPr>
        <p:spPr>
          <a:xfrm>
            <a:off x="533520" y="2292480"/>
            <a:ext cx="487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61880" indent="-347400">
              <a:lnSpc>
                <a:spcPct val="100000"/>
              </a:lnSpc>
              <a:spcBef>
                <a:spcPts val="15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provide additional reasons and </a:t>
            </a: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evidence</a:t>
            </a: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 to support your proposed solu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Text Box 9"/>
          <p:cNvSpPr/>
          <p:nvPr/>
        </p:nvSpPr>
        <p:spPr>
          <a:xfrm>
            <a:off x="533520" y="3565440"/>
            <a:ext cx="487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61880" indent="-347400">
              <a:lnSpc>
                <a:spcPct val="100000"/>
              </a:lnSpc>
              <a:spcBef>
                <a:spcPts val="15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learn of other </a:t>
            </a: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concerns</a:t>
            </a: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 and </a:t>
            </a: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counterarguments</a:t>
            </a: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 your listeners may hav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1" name="Picture 10" descr=""/>
          <p:cNvPicPr/>
          <p:nvPr/>
        </p:nvPicPr>
        <p:blipFill>
          <a:blip r:embed="rId1"/>
          <a:stretch/>
        </p:blipFill>
        <p:spPr>
          <a:xfrm>
            <a:off x="3119400" y="1968480"/>
            <a:ext cx="133560" cy="889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"/>
          <p:cNvPicPr/>
          <p:nvPr/>
        </p:nvPicPr>
        <p:blipFill>
          <a:blip r:embed="rId2"/>
          <a:stretch/>
        </p:blipFill>
        <p:spPr>
          <a:xfrm>
            <a:off x="5043600" y="3282840"/>
            <a:ext cx="133200" cy="889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6" descr="41247.JPG"/>
          <p:cNvPicPr/>
          <p:nvPr/>
        </p:nvPicPr>
        <p:blipFill>
          <a:blip r:embed="rId3"/>
          <a:srcRect l="1509" t="0" r="2165" b="0"/>
          <a:stretch/>
        </p:blipFill>
        <p:spPr>
          <a:xfrm>
            <a:off x="6053040" y="4056120"/>
            <a:ext cx="2557440" cy="17542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29" descr=""/>
          <p:cNvPicPr/>
          <p:nvPr/>
        </p:nvPicPr>
        <p:blipFill>
          <a:blip r:embed="rId4"/>
          <a:stretch/>
        </p:blipFill>
        <p:spPr>
          <a:xfrm>
            <a:off x="533520" y="5607000"/>
            <a:ext cx="590400" cy="3398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30" descr="c03lsw004"/>
          <p:cNvPicPr/>
          <p:nvPr/>
        </p:nvPicPr>
        <p:blipFill>
          <a:blip r:embed="rId5"/>
          <a:stretch/>
        </p:blipFill>
        <p:spPr>
          <a:xfrm>
            <a:off x="6095880" y="2133720"/>
            <a:ext cx="1143000" cy="16761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31" descr="c03lsw005"/>
          <p:cNvPicPr/>
          <p:nvPr/>
        </p:nvPicPr>
        <p:blipFill>
          <a:blip r:embed="rId6"/>
          <a:stretch/>
        </p:blipFill>
        <p:spPr>
          <a:xfrm>
            <a:off x="7467480" y="2133720"/>
            <a:ext cx="1143000" cy="16761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Giving a Persuasive Speech</a:t>
            </a:r>
            <a:br>
              <a:rPr sz="2500"/>
            </a:b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533520" y="1371600"/>
            <a:ext cx="80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Organize your speech in a logical, coherent order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Text Box 9"/>
          <p:cNvSpPr/>
          <p:nvPr/>
        </p:nvSpPr>
        <p:spPr>
          <a:xfrm>
            <a:off x="609480" y="2049480"/>
            <a:ext cx="3479760" cy="398880"/>
          </a:xfrm>
          <a:prstGeom prst="rect">
            <a:avLst/>
          </a:prstGeom>
          <a:solidFill>
            <a:srgbClr val="33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Thesis State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596880" y="2975040"/>
            <a:ext cx="3492360" cy="398880"/>
          </a:xfrm>
          <a:prstGeom prst="rect">
            <a:avLst/>
          </a:prstGeom>
          <a:solidFill>
            <a:srgbClr val="33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Background Inform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596880" y="3971880"/>
            <a:ext cx="3492360" cy="398880"/>
          </a:xfrm>
          <a:prstGeom prst="rect">
            <a:avLst/>
          </a:prstGeom>
          <a:solidFill>
            <a:srgbClr val="33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Proposed Solu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609480" y="5006880"/>
            <a:ext cx="3492720" cy="398880"/>
          </a:xfrm>
          <a:prstGeom prst="rect">
            <a:avLst/>
          </a:prstGeom>
          <a:solidFill>
            <a:srgbClr val="33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Call to A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5168880" y="2612880"/>
          <a:ext cx="3441600" cy="2146320"/>
        </p:xfrm>
        <a:graphic>
          <a:graphicData uri="http://schemas.openxmlformats.org/drawingml/2006/table">
            <a:tbl>
              <a:tblPr/>
              <a:tblGrid>
                <a:gridCol w="3441600"/>
              </a:tblGrid>
              <a:tr h="70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Verdana"/>
                        </a:rPr>
                        <a:t>Reasons and evidence in </a:t>
                      </a:r>
                      <a:r>
                        <a:rPr b="1" lang="en-US" sz="2000" spc="-1" strike="noStrike">
                          <a:solidFill>
                            <a:srgbClr val="ffff99"/>
                          </a:solidFill>
                          <a:latin typeface="Verdana"/>
                        </a:rPr>
                        <a:t>order of importance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33"/>
                    </a:solidFill>
                  </a:tcPr>
                </a:tc>
              </a:tr>
              <a:tr h="1440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499"/>
                        </a:spcBef>
                        <a:buClr>
                          <a:srgbClr val="003300"/>
                        </a:buClr>
                        <a:buFont typeface="Verdan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00"/>
                          </a:solidFill>
                          <a:latin typeface="Verdana"/>
                        </a:rPr>
                        <a:t>Reas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533520" indent="-533520">
                        <a:spcBef>
                          <a:spcPts val="499"/>
                        </a:spcBef>
                        <a:buClr>
                          <a:srgbClr val="003300"/>
                        </a:buClr>
                        <a:buFont typeface="Verdan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00"/>
                          </a:solidFill>
                          <a:latin typeface="Verdana"/>
                        </a:rPr>
                        <a:t>Second strongest reas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533520" indent="-533520">
                        <a:spcBef>
                          <a:spcPts val="499"/>
                        </a:spcBef>
                        <a:buClr>
                          <a:srgbClr val="003300"/>
                        </a:buClr>
                        <a:buFont typeface="Verdan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00"/>
                          </a:solidFill>
                          <a:latin typeface="Verdana"/>
                        </a:rPr>
                        <a:t>Strongest reas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104" name="Line 58"/>
          <p:cNvSpPr/>
          <p:nvPr/>
        </p:nvSpPr>
        <p:spPr>
          <a:xfrm>
            <a:off x="2273400" y="2540160"/>
            <a:ext cx="0" cy="330120"/>
          </a:xfrm>
          <a:prstGeom prst="line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Line 59"/>
          <p:cNvSpPr/>
          <p:nvPr/>
        </p:nvSpPr>
        <p:spPr>
          <a:xfrm>
            <a:off x="2273400" y="3517920"/>
            <a:ext cx="0" cy="330120"/>
          </a:xfrm>
          <a:prstGeom prst="line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Line 60"/>
          <p:cNvSpPr/>
          <p:nvPr/>
        </p:nvSpPr>
        <p:spPr>
          <a:xfrm>
            <a:off x="2273400" y="4495680"/>
            <a:ext cx="0" cy="330480"/>
          </a:xfrm>
          <a:prstGeom prst="line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Line 62"/>
          <p:cNvSpPr/>
          <p:nvPr/>
        </p:nvSpPr>
        <p:spPr>
          <a:xfrm>
            <a:off x="4089240" y="4178160"/>
            <a:ext cx="1079640" cy="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8" name="Picture 74" descr=""/>
          <p:cNvPicPr/>
          <p:nvPr/>
        </p:nvPicPr>
        <p:blipFill>
          <a:blip r:embed="rId1"/>
          <a:stretch/>
        </p:blipFill>
        <p:spPr>
          <a:xfrm>
            <a:off x="8367840" y="1604880"/>
            <a:ext cx="133200" cy="8892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77"/>
          <p:cNvSpPr/>
          <p:nvPr/>
        </p:nvSpPr>
        <p:spPr>
          <a:xfrm>
            <a:off x="6553080" y="56530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[End of Section]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5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2000"/>
                            </p:stCondLst>
                            <p:childTnLst>
                              <p:par>
                                <p:cTn id="1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2500"/>
                            </p:stCondLst>
                            <p:childTnLst>
                              <p:par>
                                <p:cTn id="1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3000"/>
                            </p:stCondLst>
                            <p:childTnLst>
                              <p:par>
                                <p:cTn id="1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3500"/>
                            </p:stCondLst>
                            <p:childTnLst>
                              <p:par>
                                <p:cTn id="1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4000"/>
                            </p:stCondLst>
                            <p:childTnLst>
                              <p:par>
                                <p:cTn id="1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500"/>
                            </p:stCondLst>
                            <p:childTnLst>
                              <p:par>
                                <p:cTn id="1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Giving a Persuasive Speech</a:t>
            </a:r>
            <a:br>
              <a:rPr sz="2500"/>
            </a:b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Rehearse and Deliver Your Speech</a:t>
            </a:r>
            <a:endParaRPr b="1" lang="en-US" sz="20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11" name="Text Box 3"/>
          <p:cNvSpPr/>
          <p:nvPr/>
        </p:nvSpPr>
        <p:spPr>
          <a:xfrm>
            <a:off x="528480" y="2282760"/>
            <a:ext cx="488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61880" indent="-347400">
              <a:lnSpc>
                <a:spcPct val="100000"/>
              </a:lnSpc>
              <a:spcBef>
                <a:spcPts val="15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maintaining eye contact as you spea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533520" y="1371600"/>
            <a:ext cx="8076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Rehearse your speech in front of a mirror or a few friends. Practi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Text Box 6"/>
          <p:cNvSpPr/>
          <p:nvPr/>
        </p:nvSpPr>
        <p:spPr>
          <a:xfrm>
            <a:off x="528480" y="3193920"/>
            <a:ext cx="4883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61880" indent="-347400">
              <a:lnSpc>
                <a:spcPct val="100000"/>
              </a:lnSpc>
              <a:spcBef>
                <a:spcPts val="15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speaking loudly, slowly, and expressively enough to be heard at the back of the ro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4" name="Picture 14" descr=""/>
          <p:cNvPicPr/>
          <p:nvPr/>
        </p:nvPicPr>
        <p:blipFill>
          <a:blip r:embed="rId1"/>
          <a:stretch/>
        </p:blipFill>
        <p:spPr>
          <a:xfrm>
            <a:off x="3309840" y="1974960"/>
            <a:ext cx="133560" cy="889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5" descr=""/>
          <p:cNvPicPr/>
          <p:nvPr/>
        </p:nvPicPr>
        <p:blipFill>
          <a:blip r:embed="rId2"/>
          <a:stretch/>
        </p:blipFill>
        <p:spPr>
          <a:xfrm>
            <a:off x="2906640" y="2886120"/>
            <a:ext cx="133560" cy="889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23" descr="c03lsw006"/>
          <p:cNvPicPr/>
          <p:nvPr/>
        </p:nvPicPr>
        <p:blipFill>
          <a:blip r:embed="rId3"/>
          <a:stretch/>
        </p:blipFill>
        <p:spPr>
          <a:xfrm>
            <a:off x="6095880" y="2133720"/>
            <a:ext cx="2543400" cy="34858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00"/>
                            </p:stCondLst>
                            <p:childTnLst>
                              <p:par>
                                <p:cTn id="1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Giving a Persuasive Speech</a:t>
            </a:r>
            <a:br>
              <a:rPr sz="2500"/>
            </a:b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Adapt Your Written Analysis</a:t>
            </a:r>
            <a:endParaRPr b="1" lang="en-US" sz="20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533520" y="1370160"/>
            <a:ext cx="834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      </a:t>
            </a: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Reasons may include the rhetorical devices listed below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533520" y="2627280"/>
          <a:ext cx="8076960" cy="2244600"/>
        </p:xfrm>
        <a:graphic>
          <a:graphicData uri="http://schemas.openxmlformats.org/drawingml/2006/table">
            <a:tbl>
              <a:tblPr/>
              <a:tblGrid>
                <a:gridCol w="2865240"/>
                <a:gridCol w="5211720"/>
              </a:tblGrid>
              <a:tr h="4179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99"/>
                          </a:solidFill>
                          <a:latin typeface="Verdana"/>
                        </a:rPr>
                        <a:t>Rhetorical Devic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3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99"/>
                          </a:solidFill>
                          <a:latin typeface="Verdana"/>
                        </a:rPr>
                        <a:t>Logical Appeal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Verdana"/>
                        </a:rPr>
                        <a:t>provide solid reason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66"/>
                    </a:solidFill>
                  </a:tcPr>
                </a:tc>
              </a:tr>
              <a:tr h="41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99"/>
                          </a:solidFill>
                          <a:latin typeface="Verdana"/>
                        </a:rPr>
                        <a:t>Emotional Appeal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Verdana"/>
                        </a:rPr>
                        <a:t>use language to inspire strong feeling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66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99"/>
                          </a:solidFill>
                          <a:latin typeface="Verdana"/>
                        </a:rPr>
                        <a:t>Ethical Appeal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Verdana"/>
                        </a:rPr>
                        <a:t>address the listeners’ sense of right and wrong, and establish the credibility of the speak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9966"/>
                    </a:solidFill>
                  </a:tcPr>
                </a:tc>
              </a:tr>
            </a:tbl>
          </a:graphicData>
        </a:graphic>
      </p:graphicFrame>
      <p:pic>
        <p:nvPicPr>
          <p:cNvPr id="120" name="Picture 98" descr=""/>
          <p:cNvPicPr/>
          <p:nvPr/>
        </p:nvPicPr>
        <p:blipFill>
          <a:blip r:embed="rId2"/>
          <a:stretch/>
        </p:blipFill>
        <p:spPr>
          <a:xfrm>
            <a:off x="533520" y="1434960"/>
            <a:ext cx="590400" cy="3398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02" descr=""/>
          <p:cNvPicPr/>
          <p:nvPr/>
        </p:nvPicPr>
        <p:blipFill>
          <a:blip r:embed="rId3"/>
          <a:stretch/>
        </p:blipFill>
        <p:spPr>
          <a:xfrm>
            <a:off x="7813800" y="5522760"/>
            <a:ext cx="796680" cy="420840"/>
          </a:xfrm>
          <a:prstGeom prst="rect">
            <a:avLst/>
          </a:prstGeom>
          <a:ln w="0">
            <a:noFill/>
          </a:ln>
        </p:spPr>
      </p:pic>
      <p:sp>
        <p:nvSpPr>
          <p:cNvPr id="122" name="AutoShape 103"/>
          <p:cNvSpPr/>
          <p:nvPr/>
        </p:nvSpPr>
        <p:spPr>
          <a:xfrm>
            <a:off x="5757840" y="6075360"/>
            <a:ext cx="2560680" cy="782640"/>
          </a:xfrm>
          <a:custGeom>
            <a:avLst/>
            <a:gdLst>
              <a:gd name="textAreaLeft" fmla="*/ 50400 w 2560680"/>
              <a:gd name="textAreaRight" fmla="*/ 2510280 w 2560680"/>
              <a:gd name="textAreaTop" fmla="*/ 50400 h 782640"/>
              <a:gd name="textAreaBottom" fmla="*/ 732240 h 782640"/>
            </a:gdLst>
            <a:ahLst/>
            <a:rect l="textAreaLeft" t="textAreaTop" r="textAreaRight" b="textAreaBottom"/>
            <a:pathLst>
              <a:path w="70649" h="21600">
                <a:moveTo>
                  <a:pt x="0" y="0"/>
                </a:moveTo>
                <a:lnTo>
                  <a:pt x="70649" y="0"/>
                </a:lnTo>
                <a:lnTo>
                  <a:pt x="70649" y="21600"/>
                </a:lnTo>
                <a:lnTo>
                  <a:pt x="0" y="21600"/>
                </a:lnTo>
                <a:close/>
              </a:path>
              <a:path fill="lightenLess" w="70649" h="21600">
                <a:moveTo>
                  <a:pt x="0" y="0"/>
                </a:moveTo>
                <a:lnTo>
                  <a:pt x="70649" y="0"/>
                </a:lnTo>
                <a:lnTo>
                  <a:pt x="69249" y="1400"/>
                </a:lnTo>
                <a:lnTo>
                  <a:pt x="1400" y="1400"/>
                </a:lnTo>
                <a:close/>
              </a:path>
              <a:path fill="darken" w="70649" h="21600">
                <a:moveTo>
                  <a:pt x="70649" y="0"/>
                </a:moveTo>
                <a:lnTo>
                  <a:pt x="70649" y="21600"/>
                </a:lnTo>
                <a:lnTo>
                  <a:pt x="69249" y="20200"/>
                </a:lnTo>
                <a:lnTo>
                  <a:pt x="69249" y="1400"/>
                </a:lnTo>
                <a:close/>
              </a:path>
              <a:path fill="darkenLess" w="70649" h="21600">
                <a:moveTo>
                  <a:pt x="706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9249" y="20200"/>
                </a:lnTo>
                <a:close/>
              </a:path>
              <a:path fill="lighten" w="706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4T21:43:20Z</dcterms:created>
  <dc:creator>Tamesa Williams</dc:creator>
  <dc:description/>
  <dc:language>en-US</dc:language>
  <cp:lastModifiedBy>Dan Olsen</cp:lastModifiedBy>
  <cp:lastPrinted>2004-12-14T19:41:04Z</cp:lastPrinted>
  <dcterms:modified xsi:type="dcterms:W3CDTF">2010-12-02T19:38:57Z</dcterms:modified>
  <cp:revision>541</cp:revision>
  <dc:subject/>
  <dc:title>Slide 1</dc:title>
</cp:coreProperties>
</file>